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ct" ContentType="image/x-pict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9.pct" ContentType="image/x-pict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A180-1CF1-4192-83C5-EC6E7E381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F78B-95AB-41A0-B469-2D8B6427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B68-F52A-4753-B027-4E1640C2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F347-ECE9-45C6-8EFC-30AF5BB7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792-A5BB-4C24-915C-B8D65403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155-2996-4910-AE24-8A867F0C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6FC-21C7-4799-9A6C-EAE1532F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AB1-6CA5-4142-A4F0-8FE93ED9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4770-0E80-4643-AA06-625067EC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591-0966-4D5B-BC76-BCE0B7FE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1F5E-FB18-4DB3-8696-0EF20CFA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727-A262-48D9-9484-381F7F71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DB3-BF53-432A-A490-57084E16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262C-FD35-42E0-B3AA-28722BA3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CD7-F7FA-4881-B326-17FE5948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372A-27EB-499B-AB3F-6ECFB3A6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DF34-36BE-490C-83AC-4F2DABD8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934-DD79-4FFC-84FB-FF82B5D4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7B2-55E9-4EA4-A713-736A419D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D64C-0FA7-47BB-A63C-286004C9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259-B3DD-4156-BD0A-221C10D0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4F86-0EAD-4A8B-9291-A6D30B0F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BAE2-EE5E-4E12-A69F-1943AD5AF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6501-1644-42D9-B8AF-BCAE9F13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69CC-A5DF-4A4E-8F3A-896F99FF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995-68F9-4796-8276-3ED6FE10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85D-266E-4588-B869-A1529F5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CB0-9D0E-42A6-9A54-B1556E23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9F8-A3B2-448C-BB20-19BC4E3C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0CCD-259F-4D78-BDB4-C7955B43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04E-D97B-41D7-81BF-2AA0076F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FB0-8A67-482A-B154-53E4A409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06C6-059F-4D9D-9A43-B734EFA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DE9-A83F-4F93-85B6-6B50352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8908-07EC-480F-A547-5ECF2C03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2BFA-81D5-41BB-AEB7-2C36347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4B9-7B77-471A-B62B-768E308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002A-47F3-45C6-9B7D-1F708C9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FC4A-219E-480A-B846-61B12784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F1A3-00FA-4B34-8289-236CC2D7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78CA-80A5-4062-92F3-4E70F0D2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10C6-A40B-4772-A0AA-C9ABDEEB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923-98BF-446E-8A84-5F7D6884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822-5AB6-440A-9603-56EA68F3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C59-0E24-4B1F-8637-0CEFC03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573-9906-4E1E-910B-2D6151E3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6FB-B022-4BB7-8344-8A4B604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91C-5B0C-4E4A-A457-B38555B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266-4A8A-47AC-B4E0-10E8C02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F17-3C36-4EEA-84FB-7F26BF48E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076-D616-4C78-A290-D9FB71FF4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536F-DB06-4EB6-9127-B5FB0DCB0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91160" cy="838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ergency Market Mapping &amp;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uided Study and Pratice of the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3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hington 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y 1: EMMA’S RATIONALE, PURPOSE &amp;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EMMA 1"/>
          <p:cNvPicPr/>
          <p:nvPr/>
        </p:nvPicPr>
        <p:blipFill>
          <a:blip r:embed="rId1"/>
          <a:stretch/>
        </p:blipFill>
        <p:spPr>
          <a:xfrm>
            <a:off x="380880" y="2819520"/>
            <a:ext cx="2438640" cy="22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dia1"/>
          <p:cNvPicPr/>
          <p:nvPr/>
        </p:nvPicPr>
        <p:blipFill>
          <a:blip r:embed="rId2"/>
          <a:stretch/>
        </p:blipFill>
        <p:spPr>
          <a:xfrm>
            <a:off x="6019920" y="3581280"/>
            <a:ext cx="25905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DEA1-3A63-477D-A385-8634573CF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r groups represent “TaxiHelp”, an aid NGO that supports lives and livelihoods of the urban poor by supporting local public taxi servic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map of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axi vehic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system of all the market actors that enable the vehicle  to be operated effectively, providing support for the urban poor user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all the actors in that system, and any links between th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about the supply chain, the infrastructure, and the rules, institutions etc that affect the marke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‘right answer’; just start and make a basic ma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any appropriate assum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bush-taxi"/>
          <p:cNvPicPr/>
          <p:nvPr/>
        </p:nvPicPr>
        <p:blipFill>
          <a:blip r:embed="rId1"/>
          <a:stretch/>
        </p:blipFill>
        <p:spPr>
          <a:xfrm>
            <a:off x="7242120" y="4800600"/>
            <a:ext cx="1901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FFA-B022-44F9-AB48-86A5736FC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40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18"/>
          <p:cNvCxnSpPr>
            <a:stCxn id="153" idx="3"/>
            <a:endCxn id="147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4" name="AutoShape 19"/>
          <p:cNvCxnSpPr>
            <a:stCxn id="155" idx="3"/>
            <a:endCxn id="147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6" name="AutoShape 20"/>
          <p:cNvCxnSpPr>
            <a:stCxn id="157" idx="3"/>
            <a:endCxn id="147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8" name="AutoShape 21"/>
          <p:cNvCxnSpPr>
            <a:stCxn id="159" idx="3"/>
            <a:endCxn id="148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0" name="AutoShape 22"/>
          <p:cNvCxnSpPr>
            <a:stCxn id="161" idx="3"/>
            <a:endCxn id="148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2" name="AutoShape 23"/>
          <p:cNvCxnSpPr>
            <a:stCxn id="161" idx="3"/>
            <a:endCxn id="149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3" name="AutoShape 24"/>
          <p:cNvCxnSpPr>
            <a:stCxn id="149" idx="3"/>
            <a:endCxn id="148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AutoShape 25"/>
          <p:cNvCxnSpPr>
            <a:stCxn id="147" idx="3"/>
            <a:endCxn id="151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5" name="AutoShape 26"/>
          <p:cNvCxnSpPr>
            <a:stCxn id="147" idx="3"/>
            <a:endCxn id="150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27"/>
          <p:cNvCxnSpPr>
            <a:stCxn id="167" idx="3"/>
            <a:endCxn id="151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8" name="AutoShape 28"/>
          <p:cNvCxnSpPr>
            <a:stCxn id="159" idx="3"/>
            <a:endCxn id="147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9" name="AutoShape 29"/>
          <p:cNvCxnSpPr>
            <a:stCxn id="148" idx="3"/>
            <a:endCxn id="147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1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47"/>
          <p:cNvCxnSpPr>
            <a:stCxn id="181" idx="3"/>
            <a:endCxn id="147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183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49"/>
          <p:cNvCxnSpPr>
            <a:stCxn id="148" idx="0"/>
            <a:endCxn id="183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50"/>
          <p:cNvCxnSpPr>
            <a:stCxn id="183" idx="3"/>
            <a:endCxn id="147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51"/>
          <p:cNvCxnSpPr>
            <a:stCxn id="149" idx="3"/>
            <a:endCxn id="183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2F9D-4A31-402F-8886-218D73145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93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8"/>
          <p:cNvCxnSpPr>
            <a:stCxn id="206" idx="3"/>
            <a:endCxn id="200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7" name="AutoShape 19"/>
          <p:cNvCxnSpPr>
            <a:stCxn id="208" idx="3"/>
            <a:endCxn id="200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9" name="AutoShape 20"/>
          <p:cNvCxnSpPr>
            <a:stCxn id="210" idx="3"/>
            <a:endCxn id="200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1" name="AutoShape 21"/>
          <p:cNvCxnSpPr>
            <a:stCxn id="212" idx="3"/>
            <a:endCxn id="201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3" name="AutoShape 22"/>
          <p:cNvCxnSpPr>
            <a:stCxn id="214" idx="3"/>
            <a:endCxn id="201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5" name="AutoShape 23"/>
          <p:cNvCxnSpPr>
            <a:stCxn id="214" idx="3"/>
            <a:endCxn id="202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6" name="AutoShape 24"/>
          <p:cNvCxnSpPr>
            <a:stCxn id="202" idx="3"/>
            <a:endCxn id="201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25"/>
          <p:cNvCxnSpPr>
            <a:stCxn id="200" idx="3"/>
            <a:endCxn id="204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8" name="AutoShape 26"/>
          <p:cNvCxnSpPr>
            <a:stCxn id="200" idx="3"/>
            <a:endCxn id="203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9" name="AutoShape 27"/>
          <p:cNvCxnSpPr>
            <a:stCxn id="220" idx="3"/>
            <a:endCxn id="204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1" name="AutoShape 28"/>
          <p:cNvCxnSpPr>
            <a:stCxn id="212" idx="3"/>
            <a:endCxn id="200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2" name="AutoShape 29"/>
          <p:cNvCxnSpPr>
            <a:stCxn id="201" idx="3"/>
            <a:endCxn id="200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4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47"/>
          <p:cNvCxnSpPr>
            <a:stCxn id="234" idx="3"/>
            <a:endCxn id="200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236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49"/>
          <p:cNvCxnSpPr>
            <a:stCxn id="201" idx="0"/>
            <a:endCxn id="236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50"/>
          <p:cNvCxnSpPr>
            <a:stCxn id="236" idx="3"/>
            <a:endCxn id="200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51"/>
          <p:cNvCxnSpPr>
            <a:stCxn id="202" idx="3"/>
            <a:endCxn id="236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40" name="Line 52"/>
          <p:cNvSpPr/>
          <p:nvPr/>
        </p:nvSpPr>
        <p:spPr>
          <a:xfrm flipH="1" flipV="1">
            <a:off x="2133720" y="48002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 flipV="1">
            <a:off x="1523880" y="449532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4"/>
          <p:cNvSpPr/>
          <p:nvPr/>
        </p:nvSpPr>
        <p:spPr>
          <a:xfrm flipH="1" flipV="1">
            <a:off x="3809520" y="4191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5"/>
          <p:cNvSpPr/>
          <p:nvPr/>
        </p:nvSpPr>
        <p:spPr>
          <a:xfrm flipV="1">
            <a:off x="3886200" y="419112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 flipH="1" flipV="1">
            <a:off x="2971800" y="434304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7"/>
          <p:cNvSpPr/>
          <p:nvPr/>
        </p:nvSpPr>
        <p:spPr>
          <a:xfrm flipH="1" flipV="1">
            <a:off x="6400440" y="3048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8"/>
          <p:cNvSpPr/>
          <p:nvPr/>
        </p:nvSpPr>
        <p:spPr>
          <a:xfrm flipV="1">
            <a:off x="6248520" y="34290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9"/>
          <p:cNvSpPr/>
          <p:nvPr/>
        </p:nvSpPr>
        <p:spPr>
          <a:xfrm flipH="1" flipV="1">
            <a:off x="6248520" y="34286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0"/>
          <p:cNvSpPr/>
          <p:nvPr/>
        </p:nvSpPr>
        <p:spPr>
          <a:xfrm flipV="1">
            <a:off x="6172200" y="4191120"/>
            <a:ext cx="2286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 flipV="1">
            <a:off x="5562720" y="4266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3809-BBE4-40C9-A9CB-BCEB797E8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Essence of Emma …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ETAILED IN PRACTICE, SIMPLE IN ITS ES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ritical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der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the market, use interviews, gath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apping at the heart of 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ange of humanitaria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A40F-8473-4734-9ABB-5549E0773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 …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, basic and 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the early stages of a 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survival needs, as well as protection of livelihoods; more effective use of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n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affected community, as well as what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wider range of innovative humanitarian recommendations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E7E-5535-4758-BC1F-A90041FB8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cipants can explain the purpose and processes of EMM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confidently adapt and apply it in appropriate circumstances to humanitarian emergencies, thereby articulating a range of effective response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E55E-CD60-4F72-B37C-F58A31ACB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y the end of the training course, participants will be able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dentify the benefits of using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, explain and apply the 3 strands and 10 steps of EMMA in emergency contex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 and use the criteria required for effective critical market system sel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the key tools of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late and analyse data gathered through the use of EMMA tools, and produce suitable options for effective humanitarian response in emergencies based on that dat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lain the value of EMMA to senior decision-mak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E80C-0C4C-4DF9-BCF5-1D908ED8E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Guided Study &amp; Practice of the Toolk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urce material is the EMMA Toolkit itsel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llows participants to become familiar &amp; confident with 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ll consider the core, major parts of the Toolk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derstand it sufficiently to continue study after workshop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 then use it in the field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859C-1560-4DBE-951D-2E746DEBA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1600200"/>
            <a:ext cx="7010280" cy="27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 are a crucial component of how people survive.  So understanding how they are functioning and disrupted is critical to any analysis of hunger, and vulnerability to food and livelihood insecurity or pover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ul Harvey, Humanitarian Policy Group, 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EMMA Market 1"/>
          <p:cNvPicPr/>
          <p:nvPr/>
        </p:nvPicPr>
        <p:blipFill>
          <a:blip r:embed="rId1"/>
          <a:stretch/>
        </p:blipFill>
        <p:spPr>
          <a:xfrm>
            <a:off x="5105520" y="44956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E67-3B84-4580-8B4E-023EAA31B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better analysis of critical market systems - enables broader range of respo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survival and protects livelihoo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se of existing market actors’ capabil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use of humanitarian resour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transition to economic recov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isk of depend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agmatic response to typical human resource and information constraints in sudden-onset emer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0F6B-1EFD-46E8-B444-64BB2DA92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EMMA 2"/>
          <p:cNvPicPr/>
          <p:nvPr/>
        </p:nvPicPr>
        <p:blipFill>
          <a:blip r:embed="rId1"/>
          <a:stretch/>
        </p:blipFill>
        <p:spPr>
          <a:xfrm>
            <a:off x="2743200" y="34290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49B-8276-4AC7-BD17-1A9408541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MA tools are rough and ready, speed-orien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decision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se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complement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ignorance” &amp; “appropriate imprecisio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: revise, refine, “good enough”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A2ED-6A55-4531-9DE8-953164FE5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219320"/>
          <a:ext cx="761976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3716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levels of the ma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nfrastructure, services &amp;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– key tool: comparisons possible using BASELINE and EMERGENCY-AFFECTE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map per critical marke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450-AE1D-4354-A252-2CB019C35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AAC0-595E-4620-BC9C-4BAAEC314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6" name="Picture 1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 = People; priority needs and preferences of most affec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= Market system; constraints and capabil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= Emergency response; different options and opport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3B68-ED97-4A65-A86B-D0ACA8E6B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637E-C686-4689-A12C-43EFB47F1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04" name="TextBox 6" descr=""/>
          <p:cNvPicPr/>
          <p:nvPr/>
        </p:nvPicPr>
        <p:blipFill>
          <a:blip r:embed="rId1"/>
          <a:stretch/>
        </p:blipFill>
        <p:spPr>
          <a:xfrm>
            <a:off x="133200" y="7430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5" name="TextBox 7" descr=""/>
          <p:cNvPicPr/>
          <p:nvPr/>
        </p:nvPicPr>
        <p:blipFill>
          <a:blip r:embed="rId2"/>
          <a:stretch/>
        </p:blipFill>
        <p:spPr>
          <a:xfrm>
            <a:off x="438120" y="13525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8" descr=""/>
          <p:cNvPicPr/>
          <p:nvPr/>
        </p:nvPicPr>
        <p:blipFill>
          <a:blip r:embed="rId3"/>
          <a:stretch/>
        </p:blipFill>
        <p:spPr>
          <a:xfrm>
            <a:off x="895320" y="19620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9" descr=""/>
          <p:cNvPicPr/>
          <p:nvPr/>
        </p:nvPicPr>
        <p:blipFill>
          <a:blip r:embed="rId4"/>
          <a:stretch/>
        </p:blipFill>
        <p:spPr>
          <a:xfrm>
            <a:off x="1200240" y="25718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0" descr=""/>
          <p:cNvPicPr/>
          <p:nvPr/>
        </p:nvPicPr>
        <p:blipFill>
          <a:blip r:embed="rId5"/>
          <a:stretch/>
        </p:blipFill>
        <p:spPr>
          <a:xfrm>
            <a:off x="1504800" y="31813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11" descr=""/>
          <p:cNvPicPr/>
          <p:nvPr/>
        </p:nvPicPr>
        <p:blipFill>
          <a:blip r:embed="rId6"/>
          <a:stretch/>
        </p:blipFill>
        <p:spPr>
          <a:xfrm>
            <a:off x="1809720" y="37908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12" descr=""/>
          <p:cNvPicPr/>
          <p:nvPr/>
        </p:nvPicPr>
        <p:blipFill>
          <a:blip r:embed="rId7"/>
          <a:stretch/>
        </p:blipFill>
        <p:spPr>
          <a:xfrm>
            <a:off x="2189160" y="44006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13" descr=""/>
          <p:cNvPicPr/>
          <p:nvPr/>
        </p:nvPicPr>
        <p:blipFill>
          <a:blip r:embed="rId8"/>
          <a:stretch/>
        </p:blipFill>
        <p:spPr>
          <a:xfrm>
            <a:off x="2494080" y="50101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2" name="TextBox 14" descr=""/>
          <p:cNvPicPr/>
          <p:nvPr/>
        </p:nvPicPr>
        <p:blipFill>
          <a:blip r:embed="rId9"/>
          <a:stretch/>
        </p:blipFill>
        <p:spPr>
          <a:xfrm>
            <a:off x="2951280" y="56196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15" descr=""/>
          <p:cNvPicPr/>
          <p:nvPr/>
        </p:nvPicPr>
        <p:blipFill>
          <a:blip r:embed="rId10"/>
          <a:stretch/>
        </p:blipFill>
        <p:spPr>
          <a:xfrm>
            <a:off x="3408480" y="6303960"/>
            <a:ext cx="5145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equence of EMMA activ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– steps may be returned to, overlap, as revision contin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till ‘good enough’ picture is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84C-7EDA-463C-A701-FB623670A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0791-472E-47D6-8CE2-B51709580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role with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ir Quirk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 of transport they used to get to Washington, or (if they live in the city) to this 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7B0-24E3-4688-84DF-BE0AEE5D6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" name="Picture 4" descr="taxi-jun03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114F-54AC-4760-81A9-B7D417877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4" descr="bush-taxi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931-2830-45DB-A722-9CA9CFE21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icture 4" descr="504_taxi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BD90-DEE4-432C-BF70-DEF59552A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4" descr="picture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449-0643-4C98-8046-0AC0B05B3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3" name="Picture 4" descr="taxi926bi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3BD7-D547-4966-874A-C97D7A9DE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does the vehicle come from; who else is concerned with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does the vehicle and its operator need to operate effective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FRASTRUCTURE, SERVICES, INPU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laws, rules etc govern hi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ITUTIONS, RULES, NORMS,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picture"/>
          <p:cNvPicPr/>
          <p:nvPr/>
        </p:nvPicPr>
        <p:blipFill>
          <a:blip r:embed="rId1"/>
          <a:stretch/>
        </p:blipFill>
        <p:spPr>
          <a:xfrm>
            <a:off x="7467480" y="152280"/>
            <a:ext cx="1554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9:00:47Z</dcterms:created>
  <dc:creator>Tony Dines</dc:creator>
  <dc:description/>
  <dc:language>en-US</dc:language>
  <cp:lastModifiedBy>Tony Dines</cp:lastModifiedBy>
  <dcterms:modified xsi:type="dcterms:W3CDTF">2009-09-14T16:14:16Z</dcterms:modified>
  <cp:revision>41</cp:revision>
  <dc:subject/>
  <dc:title>PowerPoint Presentation</dc:title>
</cp:coreProperties>
</file>